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B9D-7197-4F2E-9A60-B8B34C55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24A-BED9-4C88-BC47-58B6FD1B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9D1-C111-4178-8F39-AAB9CC2A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BAC-5600-4329-8DF7-C67AD35D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48D-7382-481D-91B3-E3CCAF7F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9754-FAEB-491D-9054-1EAF2E67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1B5-5B54-4777-83B4-E180443C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68C1-3765-4267-BE3B-EBC5C79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AE4A-A2CE-41D1-A640-59A341E1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730B-3A2E-434A-9412-9C559B9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0A84-6B2F-43C9-9A8B-8E57FA6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AC9-0C0A-40EC-8C45-E85D3024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70B-558B-45CC-A52E-58C964E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CE4B-1F32-4D30-A25E-D8F36DD8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7AE-FF3A-4BED-A913-DFD7BD7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9FA-7012-4CE9-B595-B199EDD8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E7DD-90ED-4341-8CFD-B9694E8E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081-89D4-407A-B781-B6B769D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759-AFD9-48C2-8D3D-F4AECAD8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439-F0CB-4A93-8D20-9B2BFF5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87B-E6B0-48BA-8390-596784E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B5F-73E0-4B31-8B96-F7DB5F2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880-1DE2-4C82-B551-54155E6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AE1-C00F-4CF3-9B02-6DAB55B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D40-57FD-46E8-A23F-5C5EF9189F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EE1A-3B21-4107-9B7E-2004C145A4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ill There Was No Remedy”</a:t>
            </a:r>
            <a:br>
              <a:rPr sz="5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Divided Kingdom – Part 2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7, Lesson 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saia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107-10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ai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Prophet in Jerusal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to both Judah and Isr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gan in the last year of Uzzia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during The Fall of Sama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during the reign of Hezekia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been slain during the reign of Manasse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ook of Isai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sions and Discourses Relating to Israel and Judah, and to the Nations (chapters 1-39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messages to Israel and Judah (chapter 1-1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rael’s sins ar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dolatry – 2:5-8; 8:1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mmorality – 1:15; 3:9-11; 5:8,11,18-2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tualism – 1:11-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is still a great future for God’s faithful remnant – 2:1-4; 7:14; 9:1-2,6-7; 11:1-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od’s Message for the Nations (chapters 13-23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s of the nations are not igno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ions to be dealt wi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byl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ilist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a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thiop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gyp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ab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y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asts Between God’s People and the Nations (chapters 24-27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’s judgments will begin at His own house, but other nations are still accountable for their own si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favors his peop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will protect His people while punishing the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bukes and Promises Concerning Israel’s Future (chapters 28-35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people refuse to be taught b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learn from foreign invad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view their wise men as foolish; themselves foolish for putting so much trust in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sks why they put their trust in Egypt rather than in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come to realize that they really do need God. He is the only real Help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brighter day and a better way –ch.3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istorical Sect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Chapters 36-39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zekiah and Judah face Assy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ir delive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zekiah’s sick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sitors from Babyl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8:42:38Z</dcterms:created>
  <dc:creator>Terry W. Benton</dc:creator>
  <dc:description/>
  <dc:language>en-US</dc:language>
  <cp:lastModifiedBy>Frank D Vines</cp:lastModifiedBy>
  <dcterms:modified xsi:type="dcterms:W3CDTF">2006-01-24T17:52:15Z</dcterms:modified>
  <cp:revision>6</cp:revision>
  <dc:subject/>
  <dc:title>Till There Was No Remedy The Divided Kingdom –Part 2</dc:title>
</cp:coreProperties>
</file>